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CB2-E17B-4EBA-8D13-C87345D5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3E3-BFC3-4896-80F9-8EE7F422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EFB-7771-4D24-A19B-7D3D7B67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3EF-450C-4257-8602-DD77267B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1416A-563B-4B30-876D-5DE58ED4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BCF3B-A621-425E-A57D-F4BC6A5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B4570-A246-4C33-A2D0-19DC8655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4172B-EC3D-44CD-92D4-51D36DFD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BA28B-A001-4F1B-8E86-18EDBEED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DB1BF-970C-45C4-8273-3A9EDF7A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8B680-4CE4-493E-8E4D-8A3B3DB2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BFF-27F1-42C3-AAF2-3A5C9FBC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919C4-98C1-4532-BB6D-376AE278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9D10-D3AB-4E25-AFCA-35F3281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AF11-BC1A-4898-B855-E7F9303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597ED-1F13-4A20-80C7-4950B493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03BE-1A56-4323-94EF-3CBFDF9C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2C2-0F79-42B6-8703-BECD4905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705-C17C-4CB6-A852-658AB0E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3F9-9729-44C8-B1AC-0B0FE879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0F5-0C89-435B-867B-9F2FAE84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A4C-9A09-442E-A330-CA79CFB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D82-6A35-480A-A011-F87CB154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370-5E81-471C-A7FC-41FD884A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6084-FEC3-4687-BC6C-E66606C9A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3F44-7865-4B78-8A8B-F074D4DA0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tudentsoftheworld.info/sites/nat/img/15410_050620_penguins_vmed.widec&amp;imgrefurl=http://www.studentsoftheworld.info/sites/nat/15410.php&amp;h=442&amp;w=298&amp;sz=19&amp;hl=en&amp;start=4&amp;tbnid=ILJ5YFhOz5_PAM:&amp;tbnh=127&amp;tbnw=86&amp;prev=/images%3Fq%3Dpenguins%26gbv%3D2%26hl%3Den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lettersfromnyc.mu.nu/archives/Emperor%2520Penguins.JPG&amp;imgrefurl=http://lettersfromnyc.mu.nu/archives/205988.php&amp;h=365&amp;w=471&amp;sz=32&amp;hl=en&amp;start=19&amp;tbnid=cj49_kubk-OWuM:&amp;tbnh=100&amp;tbnw=129&amp;prev=/images%3Fq%3Dpenguins%26gbv%3D2%26hl%3Den%26sa%3D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bs.org/wnet/nature/penguins/images/wallpaper/penguins_small.jpg&amp;imgrefurl=http://www.pbs.org/wnet/nature/penguins/&amp;h=600&amp;w=800&amp;sz=105&amp;hl=en&amp;start=33&amp;tbnid=7hLE7XoBUTAAzM:&amp;tbnh=107&amp;tbnw=143&amp;prev=/images%3Fq%3Dpenguins%26start%3D20%26gbv%3D2%26ndsp%3D20%26hl%3Den%26sa%3D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rosssea.info/pix/big/King-Penguins.jpg&amp;imgrefurl=http://www.rosssea.info/sub-antarctic-bird-life.html&amp;h=876&amp;w=690&amp;sz=129&amp;hl=en&amp;start=105&amp;tbnid=uCpgdLb8PSNSgM:&amp;tbnh=146&amp;tbnw=115&amp;prev=/images%3Fq%3Dpenguins%26start%3D100%26gbv%3D2%26ndsp%3D20%26hl%3Den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phy.bris.ac.uk/news/penguins4.jpg&amp;imgrefurl=http://www.phy.bris.ac.uk/news/leverhulme_grant.html&amp;h=2000&amp;w=3008&amp;sz=699&amp;hl=en&amp;start=126&amp;tbnid=K_wMre0LnoFV2M:&amp;tbnh=100&amp;tbnw=150&amp;prev=/images%3Fq%3Dpenguins%26start%3D12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yla Smu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838080"/>
            <a:ext cx="106668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 penguins? It’s so fun to read  about  them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352680"/>
            <a:ext cx="16761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nguins  live   in  Antarctica, it is the coldest plac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 are  hundreds  of  plump  penguins  in  Antarc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 penguins  heads   are   called   rooke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19520" y="3657600"/>
            <a:ext cx="13618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t’s much too cold for plants to grow in icy Antarctic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arents take turns watching the eggs  until  the  chicks  are  bor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90920" y="3276720"/>
            <a:ext cx="13618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ll the chicks want to do is eat 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1981080"/>
            <a:ext cx="1781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t’s what I know about penguin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666880"/>
            <a:ext cx="16002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7:23Z</dcterms:modified>
  <cp:revision>4</cp:revision>
  <dc:subject/>
  <dc:title>Animal Name</dc:title>
</cp:coreProperties>
</file>